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5E1F-0F41-4E36-86FF-4BC165D39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5074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8644-3E55-4810-9726-5377874F9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480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92C7-9735-443D-9A62-7F1EF60B8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5074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0120" y="5074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5074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CB3F-4AA8-42FC-9E46-5030EAFBF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B463-4911-45EB-BDE3-A39A544C0E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4367-D4BA-457E-9C10-09B0515FE3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DA42-1993-444A-B4BE-94B5DCA689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309A-7E04-4683-B6A8-743D5FEE29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A158E-9F0B-41A8-A12C-C0753CA922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5BD7C-EFFA-4865-AEE3-7330C4D3F8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212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B79D-F3F9-4260-A4C1-070D6EB41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06C7-D2F5-4BEB-8058-BFB6F39C3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480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4A0E-178A-4F78-8D39-CF6D092CFC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5074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2EED-D1C5-4784-B39D-766AE198BA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2120" y="5074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9E61-1EBF-46BA-AA32-12531B34E2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480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9F53-4B37-4FD7-B79E-8E816A2469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2120" y="5074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90120" y="5074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7760" y="5074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A82E-73B9-4A52-88B6-659D888E2D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BB4B-4334-4A4C-8670-28CD964F7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195F-07BF-40E6-9134-497A80FB1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9BDF-16A0-4EF7-99A5-37F1E337E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695D-1353-4A38-BC2F-321806633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2560-E143-4DF3-B050-47D2223F5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480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37D4-EF00-4758-ACA8-5BA1BE939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5074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D805-4069-4F27-93EB-E6B01CE65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6480" y="3885840"/>
            <a:ext cx="4267080" cy="2971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tIns="50760" bIns="50760" anchor="t">
            <a:normAutofit fontScale="75000"/>
          </a:bodyPr>
          <a:p>
            <a:pPr marL="29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29520" algn="ctr"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29520" algn="ctr"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29520" algn="ctr"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9520" algn="ctr"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9520" algn="ctr"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9520" algn="ctr"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00440"/>
            <a:ext cx="303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31BA-CAD9-49F1-AEA5-7519B2360795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tIns="50760" bIns="50760" anchor="t">
            <a:normAutofit/>
          </a:bodyPr>
          <a:p>
            <a:pPr marL="382680" indent="-343080"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1880" indent="-285840">
              <a:buClr>
                <a:srgbClr val="ff66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840" indent="-228600">
              <a:buClr>
                <a:srgbClr val="66ccff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9040" indent="-228600">
              <a:buClr>
                <a:srgbClr val="80ff00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46240" indent="-228600">
              <a:buClr>
                <a:srgbClr val="ffcc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46240" indent="-228600">
              <a:buClr>
                <a:srgbClr val="ffffff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46240" indent="-228600">
              <a:buClr>
                <a:srgbClr val="ffffff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229600" y="6400440"/>
            <a:ext cx="303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6274-FA56-4486-B0F6-94A275020E0E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catter Plo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187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ingle number or measure that is descriptive of a larger collection of number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era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199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d when there is numeric value associated with equally spaced points along a continuous number scal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ne Gra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211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nts of things along a numeric scal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ne Plo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223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uted by adding all of the numbers in the set and dividing the sum by the number of elements add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a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235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s a drawing of some sort that represents what is being graph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8000"/>
            </a:gs>
            <a:gs pos="100000">
              <a:srgbClr val="010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858000" cy="16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320" y="228600"/>
            <a:ext cx="1600200" cy="457200"/>
            <a:chOff x="76320" y="228600"/>
            <a:chExt cx="1600200" cy="457200"/>
          </a:xfrm>
        </p:grpSpPr>
        <p:sp>
          <p:nvSpPr>
            <p:cNvPr id="83" name=""/>
            <p:cNvSpPr/>
            <p:nvPr/>
          </p:nvSpPr>
          <p:spPr>
            <a:xfrm>
              <a:off x="76320" y="228600"/>
              <a:ext cx="1600200" cy="457200"/>
            </a:xfrm>
            <a:prstGeom prst="rect">
              <a:avLst/>
            </a:prstGeom>
            <a:solidFill>
              <a:srgbClr val="000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7680" y="273960"/>
              <a:ext cx="143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 action="ppaction://hlinksldjump"/>
                </a:rPr>
                <a:t>1,0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676520" y="1676520"/>
            <a:ext cx="3581280" cy="609480"/>
            <a:chOff x="1676520" y="1676520"/>
            <a:chExt cx="3581280" cy="609480"/>
          </a:xfrm>
        </p:grpSpPr>
        <p:sp>
          <p:nvSpPr>
            <p:cNvPr id="86" name=""/>
            <p:cNvSpPr/>
            <p:nvPr/>
          </p:nvSpPr>
          <p:spPr>
            <a:xfrm>
              <a:off x="1676520" y="167652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78720" y="1760400"/>
              <a:ext cx="25754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 action="ppaction://hlinksldjump"/>
                </a:rPr>
                <a:t>5th Grade Topic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410080" y="1676520"/>
            <a:ext cx="3581280" cy="609480"/>
            <a:chOff x="5410080" y="1676520"/>
            <a:chExt cx="3581280" cy="609480"/>
          </a:xfrm>
        </p:grpSpPr>
        <p:sp>
          <p:nvSpPr>
            <p:cNvPr id="89" name=""/>
            <p:cNvSpPr/>
            <p:nvPr/>
          </p:nvSpPr>
          <p:spPr>
            <a:xfrm>
              <a:off x="5410080" y="167652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2280" y="1760400"/>
              <a:ext cx="25754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 action="ppaction://hlinksldjump"/>
                </a:rPr>
                <a:t>5th Grade Topic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676520" y="2647800"/>
            <a:ext cx="3581280" cy="609480"/>
            <a:chOff x="1676520" y="2647800"/>
            <a:chExt cx="3581280" cy="609480"/>
          </a:xfrm>
        </p:grpSpPr>
        <p:sp>
          <p:nvSpPr>
            <p:cNvPr id="92" name=""/>
            <p:cNvSpPr/>
            <p:nvPr/>
          </p:nvSpPr>
          <p:spPr>
            <a:xfrm>
              <a:off x="1676520" y="264780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ff8000"/>
              </a:solidFill>
              <a:miter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78720" y="2731680"/>
              <a:ext cx="25754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 action="ppaction://hlinksldjump"/>
                </a:rPr>
                <a:t>4th Grade Topic 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410080" y="2647800"/>
            <a:ext cx="3581280" cy="609480"/>
            <a:chOff x="5410080" y="2647800"/>
            <a:chExt cx="3581280" cy="609480"/>
          </a:xfrm>
        </p:grpSpPr>
        <p:sp>
          <p:nvSpPr>
            <p:cNvPr id="95" name=""/>
            <p:cNvSpPr/>
            <p:nvPr/>
          </p:nvSpPr>
          <p:spPr>
            <a:xfrm>
              <a:off x="5410080" y="264780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12280" y="2731680"/>
              <a:ext cx="25754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 action="ppaction://hlinksldjump"/>
                </a:rPr>
                <a:t>4th Grade Topic 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676520" y="3619440"/>
            <a:ext cx="3581280" cy="609480"/>
            <a:chOff x="1676520" y="3619440"/>
            <a:chExt cx="3581280" cy="609480"/>
          </a:xfrm>
        </p:grpSpPr>
        <p:sp>
          <p:nvSpPr>
            <p:cNvPr id="98" name=""/>
            <p:cNvSpPr/>
            <p:nvPr/>
          </p:nvSpPr>
          <p:spPr>
            <a:xfrm>
              <a:off x="1676520" y="361944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000080"/>
              </a:solidFill>
              <a:miter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70440" y="3703320"/>
              <a:ext cx="259200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 action="ppaction://hlinksldjump"/>
                </a:rPr>
                <a:t>3rd Grade Topic 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410080" y="3619440"/>
            <a:ext cx="3581280" cy="609480"/>
            <a:chOff x="5410080" y="3619440"/>
            <a:chExt cx="3581280" cy="609480"/>
          </a:xfrm>
        </p:grpSpPr>
        <p:sp>
          <p:nvSpPr>
            <p:cNvPr id="101" name=""/>
            <p:cNvSpPr/>
            <p:nvPr/>
          </p:nvSpPr>
          <p:spPr>
            <a:xfrm>
              <a:off x="5410080" y="361944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04000" y="3703320"/>
              <a:ext cx="259200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 action="ppaction://hlinksldjump"/>
                </a:rPr>
                <a:t>3rd Grade Topic 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4591080"/>
            <a:ext cx="3581280" cy="609480"/>
            <a:chOff x="1676520" y="4591080"/>
            <a:chExt cx="3581280" cy="609480"/>
          </a:xfrm>
        </p:grpSpPr>
        <p:sp>
          <p:nvSpPr>
            <p:cNvPr id="104" name=""/>
            <p:cNvSpPr/>
            <p:nvPr/>
          </p:nvSpPr>
          <p:spPr>
            <a:xfrm>
              <a:off x="1676520" y="459108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800000"/>
              </a:solidFill>
              <a:miter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6960" y="4674960"/>
              <a:ext cx="265896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 action="ppaction://hlinksldjump"/>
                </a:rPr>
                <a:t>2nd Grade Topic 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4591080"/>
            <a:ext cx="3581280" cy="609480"/>
            <a:chOff x="5410080" y="4591080"/>
            <a:chExt cx="3581280" cy="609480"/>
          </a:xfrm>
        </p:grpSpPr>
        <p:sp>
          <p:nvSpPr>
            <p:cNvPr id="107" name=""/>
            <p:cNvSpPr/>
            <p:nvPr/>
          </p:nvSpPr>
          <p:spPr>
            <a:xfrm>
              <a:off x="5410080" y="459108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70520" y="4674960"/>
              <a:ext cx="265896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 action="ppaction://hlinksldjump"/>
                </a:rPr>
                <a:t>2nd Grade Topic 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76520" y="5562720"/>
            <a:ext cx="3581280" cy="609480"/>
            <a:chOff x="1676520" y="5562720"/>
            <a:chExt cx="3581280" cy="609480"/>
          </a:xfrm>
        </p:grpSpPr>
        <p:sp>
          <p:nvSpPr>
            <p:cNvPr id="110" name=""/>
            <p:cNvSpPr/>
            <p:nvPr/>
          </p:nvSpPr>
          <p:spPr>
            <a:xfrm>
              <a:off x="1676520" y="556272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008000"/>
              </a:solidFill>
              <a:miter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87000" y="5646600"/>
              <a:ext cx="255852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 action="ppaction://hlinksldjump"/>
                </a:rPr>
                <a:t>1st Grade Topic 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410080" y="5562720"/>
            <a:ext cx="3581280" cy="609480"/>
            <a:chOff x="5410080" y="5562720"/>
            <a:chExt cx="3581280" cy="609480"/>
          </a:xfrm>
        </p:grpSpPr>
        <p:sp>
          <p:nvSpPr>
            <p:cNvPr id="113" name=""/>
            <p:cNvSpPr/>
            <p:nvPr/>
          </p:nvSpPr>
          <p:spPr>
            <a:xfrm>
              <a:off x="5410080" y="556272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36320" y="5646600"/>
              <a:ext cx="272772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 action="ppaction://hlinksldjump"/>
                </a:rPr>
                <a:t>1st Grade Topic 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5240" y="800280"/>
            <a:ext cx="1371600" cy="471240"/>
            <a:chOff x="165240" y="800280"/>
            <a:chExt cx="1371600" cy="471240"/>
          </a:xfrm>
        </p:grpSpPr>
        <p:sp>
          <p:nvSpPr>
            <p:cNvPr id="116" name=""/>
            <p:cNvSpPr/>
            <p:nvPr/>
          </p:nvSpPr>
          <p:spPr>
            <a:xfrm>
              <a:off x="165240" y="800280"/>
              <a:ext cx="1371600" cy="471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9560" y="851400"/>
              <a:ext cx="118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 action="ppaction://hlinksldjump"/>
                </a:rPr>
                <a:t>5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52280" y="1387440"/>
            <a:ext cx="1371600" cy="471600"/>
            <a:chOff x="152280" y="1387440"/>
            <a:chExt cx="1371600" cy="471600"/>
          </a:xfrm>
        </p:grpSpPr>
        <p:sp>
          <p:nvSpPr>
            <p:cNvPr id="119" name=""/>
            <p:cNvSpPr/>
            <p:nvPr/>
          </p:nvSpPr>
          <p:spPr>
            <a:xfrm>
              <a:off x="152280" y="138744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6600" y="1439280"/>
              <a:ext cx="118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 action="ppaction://hlinksldjump"/>
                </a:rPr>
                <a:t>3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2280" y="1973160"/>
            <a:ext cx="1371600" cy="471600"/>
            <a:chOff x="152280" y="1973160"/>
            <a:chExt cx="1371600" cy="471600"/>
          </a:xfrm>
        </p:grpSpPr>
        <p:sp>
          <p:nvSpPr>
            <p:cNvPr id="122" name=""/>
            <p:cNvSpPr/>
            <p:nvPr/>
          </p:nvSpPr>
          <p:spPr>
            <a:xfrm>
              <a:off x="152280" y="197316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6600" y="2025000"/>
              <a:ext cx="118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 action="ppaction://hlinksldjump"/>
                </a:rPr>
                <a:t>17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280" y="2560680"/>
            <a:ext cx="1371600" cy="471600"/>
            <a:chOff x="152280" y="2560680"/>
            <a:chExt cx="1371600" cy="471600"/>
          </a:xfrm>
        </p:grpSpPr>
        <p:sp>
          <p:nvSpPr>
            <p:cNvPr id="125" name=""/>
            <p:cNvSpPr/>
            <p:nvPr/>
          </p:nvSpPr>
          <p:spPr>
            <a:xfrm>
              <a:off x="152280" y="256068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6600" y="2612520"/>
              <a:ext cx="118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 action="ppaction://hlinksldjump"/>
                </a:rPr>
                <a:t>1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2280" y="3147840"/>
            <a:ext cx="1371600" cy="471600"/>
            <a:chOff x="152280" y="3147840"/>
            <a:chExt cx="1371600" cy="471600"/>
          </a:xfrm>
        </p:grpSpPr>
        <p:sp>
          <p:nvSpPr>
            <p:cNvPr id="128" name=""/>
            <p:cNvSpPr/>
            <p:nvPr/>
          </p:nvSpPr>
          <p:spPr>
            <a:xfrm>
              <a:off x="152280" y="314784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0840" y="3199680"/>
              <a:ext cx="1012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 action="ppaction://hlinksldjump"/>
                </a:rPr>
                <a:t>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2280" y="3733920"/>
            <a:ext cx="1371600" cy="471240"/>
            <a:chOff x="152280" y="3733920"/>
            <a:chExt cx="1371600" cy="471240"/>
          </a:xfrm>
        </p:grpSpPr>
        <p:sp>
          <p:nvSpPr>
            <p:cNvPr id="131" name=""/>
            <p:cNvSpPr/>
            <p:nvPr/>
          </p:nvSpPr>
          <p:spPr>
            <a:xfrm>
              <a:off x="152280" y="3733920"/>
              <a:ext cx="1371600" cy="471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840" y="3785040"/>
              <a:ext cx="1012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 action="ppaction://hlinksldjump"/>
                </a:rPr>
                <a:t>2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2280" y="4321080"/>
            <a:ext cx="1371600" cy="471600"/>
            <a:chOff x="152280" y="4321080"/>
            <a:chExt cx="1371600" cy="471600"/>
          </a:xfrm>
        </p:grpSpPr>
        <p:sp>
          <p:nvSpPr>
            <p:cNvPr id="134" name=""/>
            <p:cNvSpPr/>
            <p:nvPr/>
          </p:nvSpPr>
          <p:spPr>
            <a:xfrm>
              <a:off x="152280" y="432108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0840" y="4372920"/>
              <a:ext cx="1012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8" action="ppaction://hlinksldjump"/>
                </a:rPr>
                <a:t>1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280" y="4906800"/>
            <a:ext cx="1371600" cy="471600"/>
            <a:chOff x="152280" y="4906800"/>
            <a:chExt cx="1371600" cy="471600"/>
          </a:xfrm>
        </p:grpSpPr>
        <p:sp>
          <p:nvSpPr>
            <p:cNvPr id="137" name=""/>
            <p:cNvSpPr/>
            <p:nvPr/>
          </p:nvSpPr>
          <p:spPr>
            <a:xfrm>
              <a:off x="152280" y="490680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5440" y="4958640"/>
              <a:ext cx="843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9" action="ppaction://hlinksldjump"/>
                </a:rPr>
                <a:t>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52280" y="5494320"/>
            <a:ext cx="1371600" cy="471600"/>
            <a:chOff x="152280" y="5494320"/>
            <a:chExt cx="1371600" cy="471600"/>
          </a:xfrm>
        </p:grpSpPr>
        <p:sp>
          <p:nvSpPr>
            <p:cNvPr id="140" name=""/>
            <p:cNvSpPr/>
            <p:nvPr/>
          </p:nvSpPr>
          <p:spPr>
            <a:xfrm>
              <a:off x="152280" y="549432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5440" y="5546160"/>
              <a:ext cx="843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2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52280" y="6081840"/>
            <a:ext cx="1371600" cy="471240"/>
            <a:chOff x="152280" y="6081840"/>
            <a:chExt cx="1371600" cy="471240"/>
          </a:xfrm>
        </p:grpSpPr>
        <p:sp>
          <p:nvSpPr>
            <p:cNvPr id="143" name=""/>
            <p:cNvSpPr/>
            <p:nvPr/>
          </p:nvSpPr>
          <p:spPr>
            <a:xfrm>
              <a:off x="152280" y="6081840"/>
              <a:ext cx="1371600" cy="471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5440" y="6132960"/>
              <a:ext cx="843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1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icture Gra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247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s the actual objects being graphed. Each item can be placed in a square or on a floor tile so that comparisons and counts are easily mad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l Gra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259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method for visually displaying not only the center (median), but also information about the range and distribution or variance of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x and Whisker Plo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273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47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bout numbers in contex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151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ense of how data are spread out or group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what characteristics about the data set as a whole can be described, and what the data tell us in a global way about the population from which they are take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ap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163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form of bar graph in which the categories are consecutive equal intervals along a numeric scal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stogra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175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47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graph of points on a coordinate grid with each axis representing one of the two variabl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ry Bodenschatz</dc:creator>
  <dc:description/>
  <dc:language>en-US</dc:language>
  <cp:lastModifiedBy/>
  <cp:revision>0</cp:revision>
  <dc:subject/>
  <dc:title>Are You Smarter  Than a 5th Grader?</dc:title>
</cp:coreProperties>
</file>